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12F-074B-4354-B674-48CC7B6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20B-F9EF-4B93-8C41-501804C1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35D-8E06-43C0-8B63-37C96AC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4A7-CFD5-4DE0-AED9-DC33296A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157-C767-476B-B136-7CA7CB9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EB3-70DD-472B-BA65-148D878A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297-84DA-493B-B60C-EEF273D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1F4-B4F2-4D17-A11B-3B60F9B7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330-BD40-4EE3-BBF9-9212100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018-9D94-4859-87CC-C88AA2C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ED9-2BD4-45C6-93C6-243AE601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50C-4A5E-4C1B-9C61-63C046E4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905120" y="64008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 2004 Pearson Education Inc., publishing as Longman Publis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8A5-40E9-456F-8410-AC367802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974520"/>
            <a:ext cx="76788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he Effective Reader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Updated Edition)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 D. J. Henry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505320" y="2860560"/>
            <a:ext cx="49528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9: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werPoint Present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Gretchen Starks-Mar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. Cloud State University, M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 2004 Pearson Education Inc., publishing as Longman Publis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oint of fact, computers make life miserabl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: “Miserable” makes this a general opin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28" descr="C:\Program Files\Microsoft Office\Clipart\smbusbas\BS00094_.wmf"/>
          <p:cNvPicPr/>
          <p:nvPr/>
        </p:nvPicPr>
        <p:blipFill>
          <a:blip r:embed="rId1"/>
          <a:stretch/>
        </p:blipFill>
        <p:spPr>
          <a:xfrm>
            <a:off x="5486400" y="3886200"/>
            <a:ext cx="2170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reat grasslands of the West should not have been plowed under for crop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: The grasslan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lowed under, but whether or not they “should not have been” is a matter of opin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C:\Program Files\Microsoft Office\Office\Clipart\standard\stddir1\bd05175_.wmf"/>
          <p:cNvPicPr/>
          <p:nvPr/>
        </p:nvPicPr>
        <p:blipFill>
          <a:blip r:embed="rId1"/>
          <a:stretch/>
        </p:blipFill>
        <p:spPr>
          <a:xfrm>
            <a:off x="838080" y="304920"/>
            <a:ext cx="20034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12840"/>
            <a:ext cx="85773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Note Qualifiers to Identify Opin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Beware of false facts, or statements presented as facts that are actually untr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A qualifier may express an absolute, unwavering opinion using words like </a:t>
            </a:r>
            <a:r>
              <a:rPr b="0" i="1" lang="en-US" sz="3200" spc="-1" strike="noStrike">
                <a:solidFill>
                  <a:srgbClr val="9a0000"/>
                </a:solidFill>
                <a:latin typeface="Verdana"/>
              </a:rPr>
              <a:t>always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or </a:t>
            </a:r>
            <a:r>
              <a:rPr b="0" i="1" lang="en-US" sz="3200" spc="-1" strike="noStrike">
                <a:solidFill>
                  <a:srgbClr val="9a0000"/>
                </a:solidFill>
                <a:latin typeface="Verdana"/>
              </a:rPr>
              <a:t>nev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e is the only sure way to lose weight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” is a qualifier and makes this statement an opin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C:\Program Files\Microsoft Office\Office\Clipart\standard\stddir4\ph01458j.jpg"/>
          <p:cNvPicPr/>
          <p:nvPr/>
        </p:nvPicPr>
        <p:blipFill>
          <a:blip r:embed="rId1"/>
          <a:stretch/>
        </p:blipFill>
        <p:spPr>
          <a:xfrm>
            <a:off x="3809880" y="41148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ink Carefully about Supposed “Facts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Beware of opinions stated to sounds like fac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:  Phrases like “in truth,” “the truth of the matter,” or “in fact” are ex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ruth, the earliest humans lived at the same time as dinosaur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: Fossil records and scientific research have proved this to be a false fa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C:\Program Files\Microsoft Office\Clipart\Pub60Cor\AN00010_.wmf"/>
          <p:cNvPicPr/>
          <p:nvPr/>
        </p:nvPicPr>
        <p:blipFill>
          <a:blip r:embed="rId1"/>
          <a:stretch/>
        </p:blipFill>
        <p:spPr>
          <a:xfrm>
            <a:off x="5334120" y="4419720"/>
            <a:ext cx="19270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1160"/>
            <a:ext cx="85773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aluate the Context of the Pass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exander the Great was one of the greatest military leaders in world hi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 was born in Pella, Macedon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xact date of his birth was probably July 20 or 26, 356 B.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rtly before his 3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birthday, Alexander the Great d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ause of his death remains unkn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676520" y="5410080"/>
            <a:ext cx="6095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each statement a fact, opinion, or fact/opinion both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:\Program Files\Microsoft Office\Office\Clipart\standard\stddir4\sy01061_.wmf"/>
          <p:cNvPicPr/>
          <p:nvPr/>
        </p:nvPicPr>
        <p:blipFill>
          <a:blip r:embed="rId1"/>
          <a:stretch/>
        </p:blipFill>
        <p:spPr>
          <a:xfrm>
            <a:off x="533520" y="228600"/>
            <a:ext cx="1438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1160"/>
            <a:ext cx="85773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aluate the Context of the Pass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/O  His name and title are factual, but the value word greatest is an opin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  This statement can be verified in historical reco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 The word probably makes this a statement of opin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  This statement can be checked and verified as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  This is a factual statement that something isn’t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028"/>
          <p:cNvSpPr/>
          <p:nvPr/>
        </p:nvSpPr>
        <p:spPr>
          <a:xfrm>
            <a:off x="1676520" y="5410080"/>
            <a:ext cx="6095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each statement a fact, opinion, or fact/opinion both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1029" descr="C:\Program Files\Microsoft Office\Office\Clipart\standard\stddir4\sy01061_.wmf"/>
          <p:cNvPicPr/>
          <p:nvPr/>
        </p:nvPicPr>
        <p:blipFill>
          <a:blip r:embed="rId1"/>
          <a:stretch/>
        </p:blipFill>
        <p:spPr>
          <a:xfrm>
            <a:off x="533520" y="228600"/>
            <a:ext cx="1438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433080"/>
            <a:ext cx="872964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Evaluate the Context of the Autho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informed opin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developed by gathering and analyzing evid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expert opin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developed through much training and extensive knowledge in a given fiel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ed opin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pping around for a 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ing an essay for a colleg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rt opin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tor’s diagnosis of an ill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 professor’s lecture on the econ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s and Opin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fa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pecific detail that can be proven as true based on objective evid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pin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feeling, judgment, belief, or conclusion that cannot be proven true by objective evid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bjective pro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one or more of the following: physical evidence, an eyewitness account, or the result of an accepted scientific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aluate the Context of the Sour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 of good factual sourc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l diction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lish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 At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4" descr="C:\Program Files\Microsoft Office\Office\Clipart\POWERPNT\book3.wmf"/>
          <p:cNvPicPr/>
          <p:nvPr/>
        </p:nvPicPr>
        <p:blipFill>
          <a:blip r:embed="rId1"/>
          <a:stretch/>
        </p:blipFill>
        <p:spPr>
          <a:xfrm>
            <a:off x="4495680" y="4038480"/>
            <a:ext cx="3497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hapter Re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fa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pecific detail that is true based on objective proo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n interpretation, value judgment, or belief that cannot be proved or dispro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bjective pro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physical evidence, an eyewitness account, or the result of an accepted scientific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informed 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developed by gathering and analyzing evid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hapter Re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expert 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developed through much training and extensive knowledge in a given fie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fa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ates rea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erprets rea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ct uses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unbias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o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pinion uses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bias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o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284920"/>
            <a:ext cx="8577360" cy="36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Verdana"/>
              </a:rPr>
              <a:t>Complete the Chapter Review, Application Exercises, Review Tests, and Mastery Tests for Chapter 9.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Remember to complete your scorecard for the Review Tests in this chapter.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71560" y="8596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61480"/>
            <a:ext cx="8577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parating Fact from Opin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Know the traits of facts and opinions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Fact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pinach is a source of ir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Opinion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pinach tastes awfu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C:\Program Files\Microsoft Office\Office\Clipart\Pub40\lttcleaf.wmf"/>
          <p:cNvPicPr/>
          <p:nvPr/>
        </p:nvPicPr>
        <p:blipFill>
          <a:blip r:embed="rId1"/>
          <a:stretch/>
        </p:blipFill>
        <p:spPr>
          <a:xfrm>
            <a:off x="1905120" y="4648320"/>
            <a:ext cx="42670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s and Opin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s re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 be ver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sented with unbiased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inach is a form of iro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prets re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 NOT be ver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sented with value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inach tastes awful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921960"/>
            <a:ext cx="872964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k Questions to Identify Fact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he statement be proved or demonstrated to be tru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he statement be observed in practice or opera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he statement be verified by witnesses, manuscripts, or docum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C:\Program Files\Common Files\Microsoft Shared\Clipart\cagcat50\BS01580_.wmf"/>
          <p:cNvPicPr/>
          <p:nvPr/>
        </p:nvPicPr>
        <p:blipFill>
          <a:blip r:embed="rId1"/>
          <a:stretch/>
        </p:blipFill>
        <p:spPr>
          <a:xfrm>
            <a:off x="6477120" y="45720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 or Opinion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A spinning class is a group exercise program of about 45 minutes riding on a stationary bik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A spinning class is a form of tor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4" descr="C:\Program Files\Microsoft Office\Office\Clipart\standard\stddir4\pe01783_.wmf"/>
          <p:cNvPicPr/>
          <p:nvPr/>
        </p:nvPicPr>
        <p:blipFill>
          <a:blip r:embed="rId1"/>
          <a:stretch/>
        </p:blipFill>
        <p:spPr>
          <a:xfrm>
            <a:off x="4114800" y="4114800"/>
            <a:ext cx="19224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 or Opinion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A spinning class is a group exercise program of about 45 minutes riding on a stationary bike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an be verified by going to a clas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A spinning class is a form of torture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ome people may enjoy the clas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:\Program Files\Microsoft Office\Office\Clipart\Pub40\exrcbik.wmf"/>
          <p:cNvPicPr/>
          <p:nvPr/>
        </p:nvPicPr>
        <p:blipFill>
          <a:blip r:embed="rId1"/>
          <a:stretch/>
        </p:blipFill>
        <p:spPr>
          <a:xfrm>
            <a:off x="4824360" y="4913280"/>
            <a:ext cx="19573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312840"/>
            <a:ext cx="872964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Note Biased Words to Identify Opin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Look for biased words.  They express opinions, value judgments and interpretations and are often loaded with emo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: A sentence can include both facts and opin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iased Wo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gu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vo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ight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rr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ab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8:58:37Z</dcterms:created>
  <dc:creator>Gretchen A. Starks-Martin</dc:creator>
  <dc:description/>
  <dc:language>en-US</dc:language>
  <cp:lastModifiedBy>cti</cp:lastModifiedBy>
  <dcterms:modified xsi:type="dcterms:W3CDTF">2015-11-18T14:34:51Z</dcterms:modified>
  <cp:revision>21</cp:revision>
  <dc:subject/>
  <dc:title>The Effective Reader      by D. J. Henry</dc:title>
</cp:coreProperties>
</file>